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DCE-079E-460E-831B-AD127A93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8FE-6895-4F30-8A93-280123BF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FA7-91A0-449D-9550-6A7A5180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E81-2633-47B1-87A7-5E3D9F16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4C0-B30A-46C4-912E-E79870DE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2DF-C71B-418C-BBC2-62251799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5B4-B5DB-4959-AC4E-1E64ACB7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433-D2AA-4EA3-96A0-DC37A6DA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B66-8087-40E1-AD5C-FED4BBC8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90E-2189-4F7B-8233-BF0BAD6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426-1CAD-41B8-B616-C6765D14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F89-B885-4F0C-A56A-8B88F5E3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2D02-A4B5-4B66-80AC-5B897B87837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304920" y="1089000"/>
            <a:ext cx="8532720" cy="550872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059280" y="3033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078000" y="371628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081240" y="440208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3081240" y="5076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100320" y="5786280"/>
            <a:ext cx="2592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439560" y="303696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58640" y="371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461880" y="44053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461880" y="507996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480960" y="578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84120" y="1052640"/>
            <a:ext cx="8542440" cy="1388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234936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اعتراف بنعم الله والمحافظة عليه وعدم الكفر 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9360" y="1484280"/>
            <a:ext cx="8583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1" name="عنوان 1"/>
          <p:cNvSpPr/>
          <p:nvPr/>
        </p:nvSpPr>
        <p:spPr>
          <a:xfrm>
            <a:off x="324000" y="53830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رية داوود عليه 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492360" y="981000"/>
            <a:ext cx="53848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3441600" y="2708280"/>
            <a:ext cx="5486400" cy="54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687240" y="4221000"/>
            <a:ext cx="8240760" cy="10544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324000" y="3284640"/>
            <a:ext cx="85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لح في الدنيا ولا في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324000" y="16286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آمن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ير الرزق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ل الرسل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ليل الحلال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جواز الأكل مما حرمه الله عند الضرورة لدفع الموت بغير ظلم ولا زيادة عن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73"/>
          <a:stretch/>
        </p:blipFill>
        <p:spPr>
          <a:xfrm>
            <a:off x="324000" y="1916280"/>
            <a:ext cx="85341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58960" y="4581360"/>
            <a:ext cx="3784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50920" y="1065240"/>
            <a:ext cx="8642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5324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95280" y="42530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ذبح على غير اسم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479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حتاج إ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981000"/>
            <a:ext cx="912636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125360"/>
            <a:ext cx="41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ذيب الله سبحانه لمن كذب برس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3737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ظا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حد الضرو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فر بنعم الله عز وجل وإنكار النبو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حلال الطيب والبعد عن الخبيث المحر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فظ النعم يكو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كر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شك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عتراف بها في القلب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ناء على الله باللسا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صرفها في طاعة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تة والدم المسفو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87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ستثنى من تحريم الميت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سمك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جر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50920" y="50022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لحم الخنزير وشحمه وعظامه وكل الأطعمة التي فيها شيء من مكونات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550692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ص اللحم بالذكر ما أن التحريم على كل الخنز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سبيل التغل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60102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ذبح لغي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محرمات عند الضرورة لدفع المو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حليل والتحريم بغير دليل شرعي ظاه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ذب ع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قوبة الكذب ع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فلح في الدنيا ولا في 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250920" y="1700280"/>
            <a:ext cx="8629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تحريم التحليل والتحريم بغير دليل شرعي ظاهر وحرمة الكذب على الله وأن الكاذب لا يفلح في الدنيا ولا في الا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9640" y="1031760"/>
            <a:ext cx="8413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6T21:21:47Z</dcterms:modified>
  <cp:revision>1940</cp:revision>
  <dc:subject/>
  <dc:title>عرض تقديمي في PowerPoint</dc:title>
</cp:coreProperties>
</file>